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6CA-73BA-4B6E-A2DD-3CFA5C82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B0A-9A8A-4CC8-BAA6-1F8D8D7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8B5-0E21-479C-BF09-9278E3F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8B5-247A-4E3D-80B1-9E0D674E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034-331B-43EE-B2F4-DD78F181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4BA-682D-4F86-A576-5FDAE9F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A60-7D67-4F76-A169-C1FFCBE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251-A8D7-4479-BDB4-B01500C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517-BB75-4769-B282-6229F4E9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F47-5409-4E35-A8A7-598D214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DDE-340A-40E1-AA33-1F53E2A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D49-833F-4E84-92B8-20EB5BE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210-EF3A-437F-B80F-11BDF23002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916280"/>
          <a:ext cx="8569080" cy="3294000"/>
        </p:xfrm>
        <a:graphic>
          <a:graphicData uri="http://schemas.openxmlformats.org/drawingml/2006/table">
            <a:tbl>
              <a:tblPr/>
              <a:tblGrid>
                <a:gridCol w="3240000"/>
                <a:gridCol w="223920"/>
                <a:gridCol w="2309760"/>
                <a:gridCol w="2795400"/>
              </a:tblGrid>
              <a:tr h="35496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ARIA GM/MS N° 3.011  DE 10/11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gridSpan="4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elece recursos a serem transferidos do Fundo de Ações Estratégicas e Compensação – FAEC para o Teto Financeiro Anual da Assistência Ambulatoriais e Hospitalar de Média e Alta Complexidade – MAC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gridSpan="4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ÃO 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TOTAL /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(UNIDADES HOSPITALA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4.794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ERAL: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.054.794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895400"/>
          <a:ext cx="8229600" cy="2627280"/>
        </p:xfrm>
        <a:graphic>
          <a:graphicData uri="http://schemas.openxmlformats.org/drawingml/2006/table">
            <a:tbl>
              <a:tblPr/>
              <a:tblGrid>
                <a:gridCol w="2735280"/>
                <a:gridCol w="590400"/>
                <a:gridCol w="2217600"/>
                <a:gridCol w="2686320"/>
              </a:tblGrid>
              <a:tr h="304920"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ARIA GM/MS N° 3.011  DE 10/11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gridSpan="4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elece recursos a serem transferidos do Fundo de Ações Estratégicas e Compensação – FAEC para o Teto Financeiro Anual da Assistência Ambulatoriais e Hospitalar de Média e Alta Complexidade – MAC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ÃO 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TOTAL /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AS (APAE DE COLI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2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ERAL: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32.62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0:54Z</dcterms:created>
  <dc:creator>branti</dc:creator>
  <dc:description/>
  <dc:language>en-US</dc:language>
  <cp:lastModifiedBy>Lanna Moraes Cavalcante</cp:lastModifiedBy>
  <dcterms:modified xsi:type="dcterms:W3CDTF">2017-12-05T18:21:43Z</dcterms:modified>
  <cp:revision>33</cp:revision>
  <dc:subject/>
  <dc:title>GOVERNO DO ESTADO DO TOCANTINS SECRETARIA DA SAÚDE SUPERINTENDENCIA DE ATENÇÃO E PROMOÇÃO À SAÚDE DIRETORIA DE CONTROLE, REGULAÇÃO, AVALIAÇÃO E AUDITORIA COORDENAÇÃO DE CONTROLE E SISTEMAS DE INFORMAÇÃO</dc:title>
</cp:coreProperties>
</file>